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7832-0FA2-4B2B-BAD8-58736A150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6E07-2E79-41D8-994F-09CB0E725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508A-4C0B-48AE-927C-22E2B5375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5916-4D84-4D65-A2B0-F98B74F24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C503-0E10-4F26-B1D8-D4BA41CDC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C7B5-C592-4123-B485-1D2D4D922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BCDB-B6B3-40C5-9D0B-A33BA49FD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3251-7477-4036-94DE-F7DB94276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3532-5C1E-46AB-93E2-23F85C91E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DE0A-A614-442C-83F3-E9B1745AF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9947-8305-47B3-B256-4CADCB99E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0E80-BE88-4FDC-A0E7-9CB4FBA07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DEC52A-BDDC-4E54-8FC1-1440771FB608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e la modernisation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à la réforme de l’Etat</a:t>
            </a: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en France</a:t>
            </a:r>
            <a:br>
              <a:rPr sz="34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341360"/>
            <a:ext cx="8675640" cy="5397480"/>
            <a:chOff x="287280" y="1341360"/>
            <a:chExt cx="8675640" cy="5397480"/>
          </a:xfrm>
        </p:grpSpPr>
        <p:sp>
          <p:nvSpPr>
            <p:cNvPr id="149" name=""/>
            <p:cNvSpPr/>
            <p:nvPr/>
          </p:nvSpPr>
          <p:spPr>
            <a:xfrm>
              <a:off x="757080" y="515772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5435640"/>
              <a:ext cx="235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Chaque administration met à disposition de l’usager ses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informations et documents « brut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484280"/>
              <a:ext cx="5543640" cy="45655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2360" y="1341360"/>
              <a:ext cx="2662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Vers une administration centrée sur l’us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2360" y="364500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4560" y="3922560"/>
              <a:ext cx="2351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Une chaîne de traitement «en ligne» amène à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repenser les processus, organisations et mét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2720" y="2205000"/>
              <a:ext cx="2806560" cy="13669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920" y="2482920"/>
              <a:ext cx="235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L’administration se tourne vers l’usager pour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mieux répondre à ses att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560" y="3479760"/>
              <a:ext cx="201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travers d’u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dministration «auto-centrée»: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lexité,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élai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4000" y="5302080"/>
              <a:ext cx="1306440" cy="28440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7800 h 284400"/>
                <a:gd name="textAreaBottom" fmla="*/ 2466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8000" y="4726080"/>
              <a:ext cx="2735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dématérialisation de la déclaration de l’impôt sur le revenu avec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il : Administration24h24.gouv.fr : 600 formalités « dématérialisées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2360" y="3789360"/>
              <a:ext cx="1306800" cy="284040"/>
            </a:xfrm>
            <a:custGeom>
              <a:avLst/>
              <a:gdLst>
                <a:gd name="textAreaLeft" fmla="*/ 228600 w 1306800"/>
                <a:gd name="textAreaRight" fmla="*/ 947520 w 1306800"/>
                <a:gd name="textAreaTop" fmla="*/ 37800 h 284040"/>
                <a:gd name="textAreaBottom" fmla="*/ 2462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9280" y="2565360"/>
              <a:ext cx="1763640" cy="21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ur 1 thème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hangement d’adresse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n transversal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: un espace de stockage de données administratives certifiées et l’accès aux démarches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4720" y="6453360"/>
              <a:ext cx="1306440" cy="28548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8160 h 285480"/>
                <a:gd name="textAreaBottom" fmla="*/ 24732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0000" y="6237360"/>
              <a:ext cx="223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ires pdf  à imprimer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sur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8920" y="514116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0560" y="362988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0920" y="218844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 développement de l’administration électronique : un levier de transformation pour toute l’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6BD7-AB03-48C9-BBB5-B8AA7C568BA7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développement des services en lig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ématérialiser les démarches et offrir d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nouveaux services en ligne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matérialisation des formulair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accès par un site unique (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ngement d’adress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15 services, 30% des déménag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ctes de naissanc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5.000 demandes par jour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éploiement début 2009 du portail « 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xpérim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man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subventions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a France est entrée dans l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op 5 européen pour les services publics en lig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étude Capgemini pour la Commission européenne, ju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A2A7-7A6A-46B8-86F9-29693ABEE1B2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29D2-6844-45E1-8ABE-FD0216476BC0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conduite de la réforme de l’E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5 : La réforme de l’Eta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tachée au Premier Ministr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Commissariat à la réforme de l’Etat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7-2005 : La réforme de l’Etat rattaché a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e de la fonction publiqu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Délégation interministérielle à la réforme de l’Etat (DIRE) puis divers organismes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003 : Direction de la réforme budgétaire (DRB) au ministère du budget pour la mise en œuvre de la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5 : Le rattachement de la réforme de l’Etat auprès du Budge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réation de la direction générale de la modernisation de l’Etat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volonté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ique, une continuité entre réforme budgétaire et réforme de l’Et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synergi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des compétences et des leviers d’a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7 : Budget + Réforme de l’Etat + Fonction publique auprès du ministre du bud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BB0A-6868-4403-BB82-F3D45BA8A9F1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 rattachement au ministre du budg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fusion de toutes les structures existantes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assurant la synergie des compétences et des leviers d’ac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Mission de la DGME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«Coordonner, aider et inciter, au niveau interministériel, les administrations en vue de moderniser les modes de fonctionnement et de gestion de l’Etat pour améliorer le service rendu aux usagers, contribuer à une utilisation plus performante des deniers publics et mobiliser les agents publics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ne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sation pour l’essentiel en mode projet : conseil/ services/inno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culture mixte public/privé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: fonctionnaires d’Etat et contractuels du secteur privé +assistance de prestataires extérieurs de cabinets de conse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Définir des référentiels et mettre en cohérence les sujets interministériels clé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Impulser les chantiers concrets de modernis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Aider et accompagner les administrations dans leurs transformations</a:t>
            </a:r>
            <a:r>
              <a:rPr b="0" lang="pl-PL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B6A8-8CC4-46EC-94DD-02EDFBFFCDCA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 moins 1 audit  par  ministère tous le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mois, puis tous les 3 mois (juillet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audits lancés, en 6 vagues, portant sur plus de 150 Mds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ythme ambi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iversité des services, procédures et fonctions, pour aborder les principaux enjeux de modernis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vagues sectorielles (par ministère) et transversales (achats, paye, archivage, bureau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choix des sujets relève de chaque ministre et du Premier min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démarche permet aux ministères de s’approprier le diagnostic et d’être les acteurs de leur démarche de moder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phier le fonctionnement de l’Etat afin d’améliorer la qualité du service rendu aux Français tout en optimisant 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59B1-D36A-407C-B892-30C98E5BA1C7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ctions interministérielles et ministériel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vec l’appui de consultants du pri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Équipes d’audits mi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ropositions concrètes et quantif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se en œuvre étudiée avec les parties pre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lans de transformation concrets sou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18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Visée opéra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ublication des rapports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tableau de bord des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Gains de produ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méliorations de la qualité d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c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8D7B-0809-406D-9BF0-7C514CA94485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nouveau contexte politi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ection du Président Sarkozy en mai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uvelle organisation gouvernementale avec 15 ministères seul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ministère des finances divisé en deux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e l’économie, des finances et de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l’emplo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u budget, des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comptes public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de la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éforme de l’Etat est pilotée par la présidence de la République avec le cabinet du Premier ministre et s’appuie sur le ministère du budge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ncement de la Révision Générale des Politiques Publiques (RGP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ègle du non remplacement des départs à la retraite à hauteur de 1 sur 2 dans la 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F0A8-C35B-4F42-92A9-80FF31102EBE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4BDE-9504-4240-87FD-3AC2404859C3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Révision Générale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nc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évision générale des politiques publiques (RGPP) par le Président de la République Nicolas SARKOZ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’objectif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GPP : assurer le meilleur service public possible au moindre coût: réexamen des missions, économies budgétaires et réduction des effectif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exerci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mbitieux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 pilotage politique au plus haut niveau : un comité de suivi composé de grands décideurs publics, un  arbitrage  par le Président de la République dans un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conseil de la modernisation des politiques publiques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e démarche exhaustive : tous les champs de l’action publique, tous les ministères et les grands opérateurs de l’État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Des audits portant sur la légitimité et les objectifs de l’action de l’État, avant de proposer des réformes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RGPP s’inspir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onnes pratiques internationales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tamme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Canad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a conduit sa «revue des programmes» dès 1994, et a vu son déficit public passer de 5,9 % en 1992 à un excédent de 0,4 % en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5B5A-8509-4281-AB8F-CE5436DD255C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s enjeux de la modernisation de l’Etat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D734-1A91-4C10-9E37-3A7F22DD386E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71480"/>
            <a:ext cx="8261640" cy="5967000"/>
            <a:chOff x="880920" y="771480"/>
            <a:chExt cx="8261640" cy="5967000"/>
          </a:xfrm>
        </p:grpSpPr>
        <p:sp>
          <p:nvSpPr>
            <p:cNvPr id="201" name=""/>
            <p:cNvSpPr/>
            <p:nvPr/>
          </p:nvSpPr>
          <p:spPr>
            <a:xfrm>
              <a:off x="127944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 faisons-nou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s sont les besoins et les attentes collective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8152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fair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1492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 scénario de transformation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1424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33520"/>
              <a:ext cx="24973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ont les objectifs de la politique publiqu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assure-t-elle ? Que garantit-elle ? A quoi contribue-t-elle ? à quoi remédie-t-ell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sont les bénéficiaires visés et leurs caractéristiqu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8400"/>
              <a:ext cx="2751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cénarios d’évolution pour obtenir une politique publique plus efficace et moins coûteus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garantir une mise en œuvre efficac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9160"/>
              <a:ext cx="2328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les évolutions permettent d’optimiser les moyens de cette politique tout en assurant le respect de ses objectifs et l’amélioration du cadre de travail des agent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simplifier les structures et les procédur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2124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 financement de cette politique par l’Etat est-il justifié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doit payer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cofinancements sont envisageabl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43160"/>
              <a:ext cx="288900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sert-elle toujours l’intérêt public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s services répondent-ils aux besoins ? Quelles sont les nouvelles attentes ? Quelle nouvelle offre de services propose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les bénéficiaires ont-ils évolué ? Qui sont les bénéficiaires eff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présente t-elle des effets pervers ou des effets d’aubain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90060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pay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815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mment faire mieux et moins cher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6560"/>
              <a:ext cx="2160720" cy="6728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Faut-il continuer à la faire de la sorte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4256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4256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71760"/>
              <a:ext cx="1048320" cy="7200"/>
            </a:xfrm>
            <a:prstGeom prst="bentConnector3">
              <a:avLst>
                <a:gd name="adj1" fmla="val 52387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1424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9240"/>
              <a:ext cx="291924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maintenir cette politiqu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revoir les obj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doit-elle rendr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adapter les outils de la politique publique ? Faut-il faire évoluer le champ des bénéficiair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72520" y="5426280"/>
              <a:ext cx="375480" cy="2160"/>
            </a:xfrm>
            <a:prstGeom prst="bentConnector3">
              <a:avLst>
                <a:gd name="adj1" fmla="val 49616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1200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3544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816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33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80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924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200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310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9400"/>
              <a:ext cx="21844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a politique peut-elle être assurée plus efficacement par d’autres acteurs ou sous d’autres form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Est-ce à l’Etat de conduire cette politique ? A quel niveau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Avec quelles coopérations et articulations avec d’autres acteurs publics ou privé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grille d’analyse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438C-A168-4F1E-899B-CAEDDFAFB8B8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analyse porte sur des dépenses de différentes na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17520" y="1698480"/>
            <a:ext cx="7024680" cy="4105440"/>
            <a:chOff x="1217520" y="1698480"/>
            <a:chExt cx="7024680" cy="4105440"/>
          </a:xfrm>
        </p:grpSpPr>
        <p:sp>
          <p:nvSpPr>
            <p:cNvPr id="234" name=""/>
            <p:cNvSpPr/>
            <p:nvPr/>
          </p:nvSpPr>
          <p:spPr>
            <a:xfrm>
              <a:off x="1217520" y="1698480"/>
              <a:ext cx="3381480" cy="56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2080" y="1806480"/>
              <a:ext cx="21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pareil produ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4880" y="1700280"/>
              <a:ext cx="3383280" cy="56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1806480"/>
              <a:ext cx="159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ven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7520" y="2397240"/>
              <a:ext cx="3381480" cy="1350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4960" y="245268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9280" y="2398680"/>
              <a:ext cx="3382920" cy="135108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8160" y="245412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2670120"/>
              <a:ext cx="3309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penses de personnel, dépenses de fonctionnement (y.c. subventions aux opérateu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vestissements « administratifs » (informatique, immobilier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27680" y="2743200"/>
              <a:ext cx="3311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d’interventions (transferts, subventions) investissements structurants (défense, équip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fis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7520" y="3938760"/>
              <a:ext cx="1631880" cy="183816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938760"/>
              <a:ext cx="16336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10320" y="3938760"/>
              <a:ext cx="16318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2440" y="3938760"/>
              <a:ext cx="1633320" cy="1863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860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 d’app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732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opér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7680" y="4003560"/>
              <a:ext cx="1503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discrétion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7680" y="4003560"/>
              <a:ext cx="1360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à guichet ouv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508640"/>
              <a:ext cx="15098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tions cent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outien des politiques publ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Fonctions support transver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56040" y="4508640"/>
              <a:ext cx="15094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Relations directes avec l’us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livrance d’un service public, d’une pre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768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 de subventionnement class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ventuellement contractualis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640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s de prestations, de transferts dir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Sur des critères ouvrant un dr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8A4A-7781-415E-846B-37AE550377C5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’organisation des travau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6096960"/>
            <a:chOff x="295200" y="981000"/>
            <a:chExt cx="8739360" cy="6096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58719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4372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équipes d’audit ministériel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chef d’équipe, membres de corps d’inspection, consultan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14876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équipes d’audit sur des grandes politiques d’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éthode spécifique – rattachement ultérieur à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4372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groupes de travail interministéri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Pilotage autonome, différent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625120"/>
              <a:ext cx="2662200" cy="418320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tion extérieure de l’E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ide publique au 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griculture et pê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ulture et communication et Services du Premier minist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ologie, développement et 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col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seaux financ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anté – solidarités – s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migration et inté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ntéri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utre-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625120"/>
              <a:ext cx="2662200" cy="373536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ami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ssurance-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iques de solidarité et de lutte contre la pauvre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lle et lo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mploi et formation professionn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veloppement des entrepri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625120"/>
              <a:ext cx="2662200" cy="25387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s ressourc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sation de l’administration territor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tions entre l’Etat et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mplification des procédures inter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240160"/>
              <a:ext cx="2662200" cy="11188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 Un chantier spécifique : la réduction de la charge administrative sur les entreprises et sur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50640" y="5109120"/>
              <a:ext cx="450360" cy="2951640"/>
            </a:xfrm>
            <a:prstGeom prst="bentConnector3">
              <a:avLst>
                <a:gd name="adj1" fmla="val -59600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25560" y="3632760"/>
              <a:ext cx="451800" cy="5902920"/>
            </a:xfrm>
            <a:prstGeom prst="bentConnector3">
              <a:avLst>
                <a:gd name="adj1" fmla="val -59409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077B-9F0F-4FF1-B49B-6F369DAC2E74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Lancement/ cad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1er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Travaux d'analyse et scénarios intermédi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2nd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Scénarios définiti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tions de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uillet-aoû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eptembre-décembre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anvier-ma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ncement de la démarche par le Premier mini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place des équipes d’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  2007, chaque ministre passe devant le Comité de suivi pour examiner des scenarios d’évolution des politiques de son minist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 premier Conseil de la modernisation des politiques publiques examine l’état d’avancement des travaux en décembre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uxième passage devant le Comité de suivi, afin d’approfondir les scenarios, d’évaluer leurs impacts et d’étudier leurs modalités d’accompag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uin 2008, le Conseil de la modernisation des politiques publiques est saisi des scénarios stratégiques de tous les ministères et adopte les principales dé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483080"/>
            <a:ext cx="1629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œuvre des réformes décidées sur la période 2009-2011, dans un cadre budgétaire plurian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sation de l’ensemble des leviers de moder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calendrier de la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93080" y="208080"/>
            <a:ext cx="190800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99E2-D23A-40F6-8B92-51CBE7B1470C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350 mesures de réforme annoncées en juin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Des économ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Une économie de 7,7 Mds€ sur 4 ans, soit environ 5 % d’économies sur le périmètre étudi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réduction des effectifs : 50 % de non remplacement des départs à la retraite : 30.600 suppressions en budget 200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modernisation des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Conséquences des fusions de plusieurs ministèr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éduction de 50 directions d’administration centrale (sur 200) (Finances: une direction générale des finances publiques pour s’occuper de l’impô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réforme de l’Etat territori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serrement des implantations territoriales : défense – justice – sant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niveau régional est de droit commun pour la programmation des politiques publiques + autorité hiérarchique du préfet de région sur le préfet de département + un nombre réduit de directions régionales : 8 directions au lieu de 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département : l’exécution des politiques publiques : resserrement autour du Préfet avec 3 directions interministérielles nouvel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09E1-95E8-4791-8B06-AE570DDFFDDA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s chantiers transver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 – collectivités local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larifier les compétences à l’issue des lois de décentral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lléger et encadrer les normes que l’Etat fait peser sur les collectiv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eilleur respect de la contrainte globale des financ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ers une réforme des niveaux d’administrations en 2009 ?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mmunes/communautés de communes/départements/rég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 simplification des procédures internes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réation « d’agences de service public » donnant au sein de l’Etat une plus grande souplesse de gestion à des structures autono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guler l’inflation normative (étude d’impact préalabl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implifier des procédures (d’organisation des ministères – de passation des marchés – de consultations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former le contrôle de la dépense publique (expérimenter un comité d’engagement à la place du visa préalable des actes du contrôle financie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036A-1668-49DD-BA48-B76375664064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22080"/>
            <a:ext cx="79200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gouvernance des finances publ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Un budget pluriannuel pour l’Etat (2009-2011) avec une loi de programmation des finances publiques (votée en décembre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es règles d’adoption plus strictes pour les dépenses fi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rationalisation et la mutualisation des fonctions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Mise en place d’un opérateur national de pay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Centralisation de la politique immobili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duction de «l’impôt papier» (allégement des charges pesant sur les entreprise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éveloppement de l’administration électronique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forme de l’organisation des achats (une agence nationale des achats mutualisé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Amélioration de l’accueil dans les services publics (accueil multicanal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’accompagnement des restructuration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ar une politique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ssources humaine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daptée : primes de mobilité et indemnités de départ volon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8D2D-F202-47B9-9C8E-701A674A9706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Vers une modification du statut de la fonction publiqu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ivre blanc de 40 propositions pour modernisation la fonction publique en 2008 pour un projet de  loi en 2009,  do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organiser le statut de corps en créant  7 grandes filières métiers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dministration générale / finances / sociale / éducation recherche / culturelle / technique / sécurité (hors militaires et magistr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éfinir la place du contrat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ntrats de droit public pour 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mploi de souveraineté  et des contrats de droit privé pour les autres  autres emploi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ixer une part d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munér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 mérit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une composante liée au grade (ancienneté) + une composante liée à l’emploi (part fixe et part variable liée aux résult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</a:t>
            </a: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B4F1-8321-451D-9A18-AA9D99179D35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situation des finances publiques (déficit et det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démographie, l’attractivité de la fonction pub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s évolutions de la société, les attentes des cit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compétitivité globale du pays dans une économie mondi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’articulation des différents niveaux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tat, Collectivités locales, Union européen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414600"/>
            <a:ext cx="174600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é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État doit faire face à des défis considéra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DF11-54A6-439A-9219-8F48DE7AF0E6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Contexte et périmètre de la réforme de l’Et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exte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une situation de finances publiques difficile: dette de 63,9% du PIB et déficit de 2,7% du PIB en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érimètr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 L’Etat n’est qu’une partie de la sphère publique, même les citoyens s’adressent toujours au Gouvernemen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difficulté : des politiques publiques définies par l’Etat mais dont certaines sont gérées par des entités autono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+ organismes di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4115160"/>
              <a:ext cx="187020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 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écurité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991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340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207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444 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6160-F7F3-4ABD-93E7-AA9B6D4E2410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éléments du budget de l’Etat franç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natures de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43%  de dépenses de personn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2% de dépenses d’interven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6% de charge de la det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4% de fonctionnement coura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5% d’invest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1,5% Education nation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,5% Missions sociales-emploi-san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 % Déf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8,6% Recherche et enseignement supérie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eff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2,2 M de fonctionnaires (5 M au total avec les collectivités locales et les hôpitaux soit 20% des actifs)  dont la moitié sont des  enseignants financés sur le budget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1BA6-5969-402B-80FC-348FD371D304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leviers de la modernisation de l’É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1690200"/>
            <a:ext cx="7613640" cy="4258080"/>
            <a:chOff x="900000" y="1690200"/>
            <a:chExt cx="7613640" cy="4258080"/>
          </a:xfrm>
        </p:grpSpPr>
        <p:sp>
          <p:nvSpPr>
            <p:cNvPr id="123" name=""/>
            <p:cNvSpPr/>
            <p:nvPr/>
          </p:nvSpPr>
          <p:spPr>
            <a:xfrm>
              <a:off x="900000" y="1758960"/>
              <a:ext cx="761364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3360" y="1690200"/>
              <a:ext cx="6653160" cy="40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ois leviers «classiques» ess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nouvelle gestion publique (la 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simplification et l’exigence de qua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 développement de l’administration électro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360" y="2984400"/>
              <a:ext cx="82404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0360" y="3776760"/>
              <a:ext cx="82404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4640400"/>
              <a:ext cx="82404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0814-8AEA-4403-A3EF-8BE82F78C94E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gestion publique promue par la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e réflexion sur le sens de l’ac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formalisation de la stratégie et des objectif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globalisation des enveloppes de crédits, déconcentration des décisions de gestion pour trouver des gains de performance au plus près du terrai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sponsabili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logique de performance (objectifs et indicateurs), outils de pilotage (système d’information budgétaire et comptable, comptabilité d’exercice, contrôle de gestion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3213000"/>
            <a:ext cx="8128080" cy="3475080"/>
            <a:chOff x="755640" y="3213000"/>
            <a:chExt cx="8128080" cy="3475080"/>
          </a:xfrm>
        </p:grpSpPr>
        <p:sp>
          <p:nvSpPr>
            <p:cNvPr id="131" name=""/>
            <p:cNvSpPr/>
            <p:nvPr/>
          </p:nvSpPr>
          <p:spPr>
            <a:xfrm>
              <a:off x="3564000" y="4164120"/>
              <a:ext cx="2160360" cy="9111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924360"/>
              <a:ext cx="2400480" cy="139068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es a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438800"/>
              <a:ext cx="2171880" cy="658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écisément identifi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oins nombr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lus respons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2720" y="4394160"/>
              <a:ext cx="1487520" cy="4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apacité d’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7640" y="4237200"/>
              <a:ext cx="74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720" y="3573360"/>
              <a:ext cx="2403720" cy="311472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703840" y="4487400"/>
              <a:ext cx="4842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080" y="3616200"/>
              <a:ext cx="2114640" cy="30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gains d'efficacité au plus près des activités des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équipes motivées et mobilisées vers les résultats à atteind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e meilleure capacité à adapter l'action en fonction des résultats et à résoudre les problè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37440" y="3772080"/>
              <a:ext cx="299880" cy="3250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440" y="4781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7440" y="6005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8000" y="5148360"/>
              <a:ext cx="2733840" cy="65880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 pré requis pour construire un système de responsabilité orienté vers les résul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1520" y="3213000"/>
              <a:ext cx="266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Les bénéfices atten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FC10-B991-4F3B-8C2C-75C8219E2101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2. La qualité et la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lois de simplific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nnuelles (pour les particuliers et les entrepris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utte contre l’inflation norm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llaboration avec le Secrétariat général du Gouvernement (SGG) : les études d’imp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/labellisation des services accueillant du 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généralisation en 2006 des tests de qualité, évolution de la charte Marianne vers un référentiel de certification/labellisation qual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mesure et 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duction de la charge administr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esant sur les usagers, particuliers et entreprises : mise en place d’un indicateur de complexité des démarches administrativ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éduction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ionalisation des commissions administrativ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8 juin 2006 conduisant à ne créer les commissions que pour une durée de vie limité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8587-EF8F-46A1-8ECE-99F286B01B8A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Le développement de l’administration électroniq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arantir les échanges électroniqu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’ordonnance du 8 décembre 2005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relative aux échanges électroniques, pose les bases juridiques nécessaires à l’accélération et à la généralisation de l’administration électronique (validité juridique des courriers électroniques, signature électronique des actes administratifs, espace de stockag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ser les investissements pour éviter leur redond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e schéma directeur de l’administration électron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organise le pilotage interministériel du développement de l’administration électronique, en érigeant comme règle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mutualisa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l’efficacité des services (47 initiatives portées par un ministère chef de fil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laborer les référentiels généraux d’interopérabilité et de sécur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l s’agit pour l’Etat de définir u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rpus de règl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qui combine à la fois les spécificités métiers des administrations, le respect de la confidentialité des données, la fluidité des échanges de données numériques, la sécurité des systèmes d’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B7DD-BDAC-4129-9524-1DECB25395DB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2:50:46Z</dcterms:modified>
  <cp:revision>555</cp:revision>
  <dc:subject/>
  <dc:title>Présentation PowerPoint</dc:title>
</cp:coreProperties>
</file>