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4400" cy="37213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4"/>
          </p:nvPr>
        </p:nvSpPr>
        <p:spPr>
          <a:xfrm>
            <a:off x="384984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316784-48AD-41DA-AE7A-49A7FE2085C9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0AEC9A-9A92-4EC9-B8EC-96DAAAC85D28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53E563-129A-4C27-8740-1F6302785B7E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11BEF7-044D-4CC4-8A65-19D8D7962521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BA9FFA-7409-4FCC-B7EC-57110BF73650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F79CE7-A045-4D05-9E04-2430737927FD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643717-45C2-454C-8DBE-0876EE140D55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799BBC-0E21-4668-AEB6-7DCADC5345CA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FD6D74-019E-4AA2-A910-5CE7169381ED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05D5CF-8042-416E-A17F-362BEC290004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0800" cy="37227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07920" y="4716000"/>
            <a:ext cx="49816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49AA52-E57B-45DB-8617-F840AE3D4CBA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313D86-3510-489C-819B-6D77E7597071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ECACBB-6BE6-45A2-8299-086D054C3C55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1EB177-1198-40E1-A0C5-79CB10F39920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6A5F6D-B595-4B8F-A847-21D6656F86E5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4D9C9D-0B4B-473D-AA23-32A790E3D193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98609E-5DBE-464C-A71B-5852BE617E5C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ACAC2C-F4B3-4ADC-8FBE-837151668DED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E7898B-1984-4982-88B3-F927B0A2C8C9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1227D5-6CA5-45A1-BDEE-B08DF2DE6ED9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80F8ED-1D87-474E-A759-29FBE244CF07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E0FF3D-37AF-4887-8AF2-3B0607998CC5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9B50C1-F0F9-4D63-8B4C-43EBD10993CD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852720" y="11160"/>
            <a:ext cx="29466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9450360"/>
            <a:ext cx="2946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-1440" y="9450360"/>
            <a:ext cx="2946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-1440" y="11160"/>
            <a:ext cx="2946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852720" y="4680"/>
            <a:ext cx="2946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852720" y="9450360"/>
            <a:ext cx="2946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-1440" y="9450360"/>
            <a:ext cx="2946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-1440" y="4680"/>
            <a:ext cx="2946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227240" y="1058760"/>
            <a:ext cx="4413240" cy="33116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20480" y="5241960"/>
            <a:ext cx="593244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26E1F5-BA2E-4320-A2DE-B8FCE092CE37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28AF3-72B9-47D1-B7F9-266708DCDF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05AAA-8638-433B-BEF2-66A2C4F20A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12B91-3282-4605-83D6-02AA57A503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8D23C-E497-47F0-8CB9-4F40B3C91B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8A515-584A-4799-A2FB-9589BEC378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12360-2BD0-4328-A020-4BF21B2BAA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1C617-5BDC-48B6-8B8F-A7C07DF772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F1C8E-296A-4E72-AB2A-F1129442CC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553E5-A5A2-4FD2-8347-9E4B967A72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A7274-363B-4D99-A5D3-577091E493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677F2-2225-4D75-9C93-79D7FBC58D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577AF-78BE-4B3E-950D-34EA888B58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95280" y="260280"/>
            <a:ext cx="152280" cy="63374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68120" y="260280"/>
            <a:ext cx="155880" cy="633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459280" y="6356160"/>
            <a:ext cx="682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AF9AC02-55F5-4474-8427-82901A64B60A}" type="slidenum">
              <a:rPr b="0" lang="fr-FR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48720" y="6350040"/>
            <a:ext cx="144360" cy="404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06200" y="6404040"/>
            <a:ext cx="649440" cy="40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55640" y="404640"/>
            <a:ext cx="8064360" cy="6120000"/>
          </a:xfrm>
          <a:prstGeom prst="rect">
            <a:avLst/>
          </a:prstGeom>
          <a:solidFill>
            <a:srgbClr val="a50021"/>
          </a:solidFill>
          <a:ln cap="sq"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7280" y="2636640"/>
            <a:ext cx="72374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404640"/>
            <a:ext cx="144360" cy="6120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8120" y="404640"/>
            <a:ext cx="147960" cy="6120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44360" y="141120"/>
          <a:ext cx="1187640" cy="69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360" y="141120"/>
                    <a:ext cx="118764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560" y="1412640"/>
            <a:ext cx="79218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3400" spc="-1" strike="noStrike">
                <a:solidFill>
                  <a:srgbClr val="ffffff"/>
                </a:solidFill>
                <a:latin typeface="Arial"/>
              </a:rPr>
              <a:t>Cykl wykładów</a:t>
            </a:r>
            <a:r>
              <a:rPr b="0" lang="fr-FR" sz="3400" spc="-1" strike="noStrike">
                <a:solidFill>
                  <a:srgbClr val="ffffff"/>
                </a:solidFill>
                <a:latin typeface="Arial"/>
              </a:rPr>
              <a:t> KSAP-ENA</a:t>
            </a:r>
            <a:br>
              <a:rPr sz="3400"/>
            </a:br>
            <a:br>
              <a:rPr sz="34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Reforma budżetowa</a:t>
            </a:r>
            <a:br>
              <a:rPr sz="3800"/>
            </a:br>
            <a:br>
              <a:rPr sz="3400"/>
            </a:br>
            <a:r>
              <a:rPr b="0" lang="fr-FR" sz="3000" spc="-1" strike="noStrike">
                <a:solidFill>
                  <a:srgbClr val="ffffff"/>
                </a:solidFill>
                <a:latin typeface="Arial"/>
              </a:rPr>
              <a:t>Frank MORDACQ</a:t>
            </a:r>
            <a:br>
              <a:rPr sz="30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Ministerstwo Budżetu, Rachunków Publicznych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i Służby Cywilnej - Paryż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438240" y="6014880"/>
            <a:ext cx="25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 Narrow"/>
              </a:rPr>
              <a:t>Warszawa, 11 grudnia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2209680" y="6531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" name=""/>
          <p:cNvGraphicFramePr/>
          <p:nvPr/>
        </p:nvGraphicFramePr>
        <p:xfrm>
          <a:off x="6553080" y="6548400"/>
          <a:ext cx="83844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53080" y="6548400"/>
                    <a:ext cx="83844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1523880" y="6491160"/>
            <a:ext cx="6629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Konferencja współfinansowana przez Unię Europejską w ramach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Europejskiego Funduszu Społeczneg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Sfera wymiany: wolność - odpowiedzialność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87280" y="1663560"/>
            <a:ext cx="2735280" cy="2070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Zwiększona swoboda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aktorów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administracj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5640" y="3786120"/>
            <a:ext cx="36003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Globalizacja środków w danym programi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Rodzajowa zamienność środków z ograniczeniem do funduszu pła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Swoboda rozwoju kadrowego </a:t>
            </a:r>
            <a:r>
              <a:rPr b="0" lang="fr-FR" sz="17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z limitem liczby zatrudnionych w przeliczeniu na pełne etat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08560" y="1663560"/>
            <a:ext cx="2792520" cy="2070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Większa odpowiedzialność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Zarządzających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programam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76720" y="3786120"/>
            <a:ext cx="3527640" cy="27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Zobowiązanie co do celów i sprawozdawczość z osiąganych wyników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Sprawozdawczość wykorzystania środków</a:t>
            </a:r>
            <a:r>
              <a:rPr b="0" lang="fr-FR" sz="17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w podziale: rodzajowe i celow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Więcej informacji dotyczących wykonania budżetu: </a:t>
            </a:r>
            <a:r>
              <a:rPr b="0" lang="fr-FR" sz="17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środki zabudżetowane i realizacj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tabLst>
                <a:tab algn="l" pos="0"/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DBC5F-00E2-47F7-A392-E50439C62B53}" type="slidenum">
              <a:t>10</a:t>
            </a:fld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314360" y="836640"/>
            <a:ext cx="7247160" cy="5958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990960" y="4481640"/>
            <a:ext cx="138420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a40079"/>
                </a:solidFill>
                <a:latin typeface="Arial"/>
              </a:rPr>
              <a:t>zamienność</a:t>
            </a:r>
            <a:r>
              <a:rPr b="0" lang="fr-FR" sz="1600" spc="-1" strike="noStrike">
                <a:solidFill>
                  <a:srgbClr val="a4007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238720" y="2963880"/>
            <a:ext cx="1962360" cy="1432080"/>
            <a:chOff x="5238720" y="2963880"/>
            <a:chExt cx="1962360" cy="1432080"/>
          </a:xfrm>
        </p:grpSpPr>
        <p:sp>
          <p:nvSpPr>
            <p:cNvPr id="181" name=""/>
            <p:cNvSpPr/>
            <p:nvPr/>
          </p:nvSpPr>
          <p:spPr>
            <a:xfrm>
              <a:off x="5425920" y="3681360"/>
              <a:ext cx="1775160" cy="714600"/>
            </a:xfrm>
            <a:custGeom>
              <a:avLst/>
              <a:gdLst>
                <a:gd name="textAreaLeft" fmla="*/ 310680 w 1775160"/>
                <a:gd name="textAreaRight" fmla="*/ 1287000 w 1775160"/>
                <a:gd name="textAreaTop" fmla="*/ 95760 h 714600"/>
                <a:gd name="textAreaBottom" fmla="*/ 618840 h 7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33cccc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5238720" y="2963880"/>
              <a:ext cx="1774800" cy="717480"/>
            </a:xfrm>
            <a:custGeom>
              <a:avLst/>
              <a:gdLst>
                <a:gd name="textAreaLeft" fmla="*/ 310320 w 1774800"/>
                <a:gd name="textAreaRight" fmla="*/ 1286640 w 1774800"/>
                <a:gd name="textAreaTop" fmla="*/ 96120 h 717480"/>
                <a:gd name="textAreaBottom" fmla="*/ 621360 h 717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33cccc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4106880" y="5616720"/>
            <a:ext cx="1359000" cy="358560"/>
          </a:xfrm>
          <a:prstGeom prst="rightArrow">
            <a:avLst>
              <a:gd name="adj1" fmla="val 50000"/>
              <a:gd name="adj2" fmla="val 94754"/>
            </a:avLst>
          </a:prstGeom>
          <a:solidFill>
            <a:srgbClr val="33cccc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032360" y="4971960"/>
            <a:ext cx="1358640" cy="358920"/>
          </a:xfrm>
          <a:prstGeom prst="rightArrow">
            <a:avLst>
              <a:gd name="adj1" fmla="val 50000"/>
              <a:gd name="adj2" fmla="val 94634"/>
            </a:avLst>
          </a:prstGeom>
          <a:solidFill>
            <a:srgbClr val="33cccc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655800" y="3179880"/>
            <a:ext cx="903600" cy="787320"/>
            <a:chOff x="3655800" y="3179880"/>
            <a:chExt cx="903600" cy="787320"/>
          </a:xfrm>
        </p:grpSpPr>
        <p:sp>
          <p:nvSpPr>
            <p:cNvPr id="186" name=""/>
            <p:cNvSpPr/>
            <p:nvPr/>
          </p:nvSpPr>
          <p:spPr>
            <a:xfrm>
              <a:off x="3741840" y="3575160"/>
              <a:ext cx="817560" cy="392040"/>
            </a:xfrm>
            <a:custGeom>
              <a:avLst/>
              <a:gdLst>
                <a:gd name="textAreaLeft" fmla="*/ 142920 w 817560"/>
                <a:gd name="textAreaRight" fmla="*/ 592920 w 817560"/>
                <a:gd name="textAreaTop" fmla="*/ 52560 h 392040"/>
                <a:gd name="textAreaBottom" fmla="*/ 33948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33cccc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655440" y="3179880"/>
              <a:ext cx="817560" cy="393480"/>
            </a:xfrm>
            <a:custGeom>
              <a:avLst/>
              <a:gdLst>
                <a:gd name="textAreaLeft" fmla="*/ 142560 w 817560"/>
                <a:gd name="textAreaRight" fmla="*/ 592560 w 817560"/>
                <a:gd name="textAreaTop" fmla="*/ 52560 h 393480"/>
                <a:gd name="textAreaBottom" fmla="*/ 340920 h 393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33cccc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4560840" y="4900680"/>
            <a:ext cx="527040" cy="43020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559040" y="4900680"/>
            <a:ext cx="455400" cy="43020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927920" cy="60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Zamienność w łonie progamu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D2E9A-DB1D-4C2D-BF79-1E20F4119940}" type="slidenum">
              <a:t>11</a:t>
            </a:fld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Budżet ukierunkowany wynikowo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dążenie do 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WYDAJNOŚCI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9279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4d4d4d"/>
                </a:solidFill>
                <a:latin typeface="Wingdings 3"/>
                <a:ea typeface="Wingdings 3"/>
              </a:rPr>
              <a:t>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ele określane w ramach zabudżetowanych środk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≠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budżetowanie celow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4d4d4d"/>
                </a:solidFill>
                <a:latin typeface="Wingdings 3"/>
                <a:ea typeface="Wingdings 3"/>
              </a:rPr>
              <a:t>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Cele dot. poprawy skuteczności wydatków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Zobowiązania wynikow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: </a:t>
            </a:r>
            <a:r>
              <a:rPr b="0" i="1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roczny plan wydajności</a:t>
            </a:r>
            <a:r>
              <a:rPr b="0" i="1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(LFI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Sprawozdawczoś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: </a:t>
            </a:r>
            <a:r>
              <a:rPr b="0" i="1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roczne sprawozdanie nt. wydajności</a:t>
            </a:r>
            <a:r>
              <a:rPr b="0" i="1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(LR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Ta sama prezentacj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struktura co rocznego planu wydajności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celem ułatwienia porówna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prognoza/realizacj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Przyjęcie w pierwszym czytaniu ustaw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rozlicze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n-1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przed zbadaniem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PLF n+1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B7CDB-F199-4891-A8F3-9933CC60BE96}" type="slidenum">
              <a:t>12</a:t>
            </a:fld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Sens wydajności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55280" y="1628640"/>
            <a:ext cx="80643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9440" indent="-379440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etodologiczny przewodnik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a użytek rządu, parlamentu, najwyższego organu kontroli i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CIAP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79440" indent="-37944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obór celów i wskaźników reprezentatywny dla priorytetów program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Strateg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jaśniania spójnośc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l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możliwiające zaspokojenie oczekiwać obywatel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</a:t>
            </a:r>
            <a:br>
              <a:rPr sz="2000"/>
            </a:b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żytkownika i podatnik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bór polityczny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skaźni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łużące do pomiaru realizacji przyjętych celów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79440" indent="-37944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ele i wskaźni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bjaśniają polityki i są przedstawiane parlamentowi 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PAP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prawozdanie zaś 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RAP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ą wykorzystywane i przenoszone na szczebel zarządzania wewnętrznego, nadają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sens działalności każdego pracownik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7329600" y="114480"/>
            <a:ext cx="1419120" cy="158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EFAAD-852B-43AC-BB7B-614217076F81}" type="slidenum">
              <a:t>13</a:t>
            </a:fld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Wymiary wydajności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Trzy wymiary wydaj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1125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skuteczność</a:t>
            </a: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 s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połeczno-ekonomiczn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unkt widzenia obywatel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 :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czekiwane skutki polityk publiczn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jakość świadczonej usług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unkt widzenia użytkownik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 :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ymóg jakośc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skuteczność zarządzani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unkt widzenia podatnik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 :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ptymalizacja środków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skaźni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miaru wyników w przypadku każdego ustalonego celu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zyskiwane i oczekiwane poziomy wydaj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el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ydaj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 nie działalności czy środków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el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ające się przypisa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ierownictw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tała kontrola sprawowana przez niezależny organ publiczny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iędzyresortowy Komitet Audytów Programowych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(CIAP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9B43F-91FA-4994-A1B0-49B6E0C92463}" type="slidenum">
              <a:t>14</a:t>
            </a:fld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Pilotaż wydajności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55640" y="1557000"/>
            <a:ext cx="79279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5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celów na program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, 2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wskaźniki na c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500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celów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– 1.000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wskaźników w roku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2009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822240" y="2349360"/>
            <a:ext cx="7818480" cy="3458880"/>
            <a:chOff x="822240" y="2349360"/>
            <a:chExt cx="7818480" cy="3458880"/>
          </a:xfrm>
        </p:grpSpPr>
        <p:sp>
          <p:nvSpPr>
            <p:cNvPr id="201" name=""/>
            <p:cNvSpPr/>
            <p:nvPr/>
          </p:nvSpPr>
          <p:spPr>
            <a:xfrm>
              <a:off x="826920" y="4989600"/>
              <a:ext cx="7694640" cy="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826920" y="3898440"/>
              <a:ext cx="7694640" cy="1116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26920" y="5767560"/>
              <a:ext cx="7694640" cy="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826920" y="3042720"/>
              <a:ext cx="7694640" cy="1116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26920" y="2505240"/>
              <a:ext cx="185112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Punkt </a:t>
              </a:r>
              <a:r>
                <a:rPr b="0" lang="pl-PL" sz="1800" spc="-1" strike="noStrike">
                  <a:solidFill>
                    <a:srgbClr val="ff9933"/>
                  </a:solidFill>
                  <a:latin typeface="Arial"/>
                </a:rPr>
                <a:t>widzen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425680" y="2505240"/>
              <a:ext cx="147492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  </a:t>
              </a: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Oś analiz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253760" y="2349360"/>
              <a:ext cx="197352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Przykłady celó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236280" y="2349360"/>
              <a:ext cx="150732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Przykłady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wskaźnikó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22240" y="3132000"/>
              <a:ext cx="109584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Obywat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22240" y="3909960"/>
              <a:ext cx="129852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Użytkowni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26200" y="4989600"/>
              <a:ext cx="103176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Podatni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426040" y="3102120"/>
              <a:ext cx="162468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kuteczność spo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łeczno-ekonomicz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425320" y="3932280"/>
              <a:ext cx="177552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Jakość świadczonej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usług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26400" y="5024520"/>
              <a:ext cx="113076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kuteczność</a:t>
              </a:r>
              <a:br>
                <a:rPr sz="1400"/>
              </a:b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arządzan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254480" y="3078000"/>
              <a:ext cx="1873080" cy="78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większenie integracj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awodowej młody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yplomantó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232680" y="3044880"/>
              <a:ext cx="2408040" cy="78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%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yplomantów pracujący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6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miesięcy po uzyskaniu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yplom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252320" y="3932280"/>
              <a:ext cx="192492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przyspieszenie decyzj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ądowy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254480" y="5024520"/>
              <a:ext cx="1873080" cy="78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mniejszenie kosztó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arządzania podat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kie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229080" y="3900600"/>
              <a:ext cx="2177640" cy="9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Średnia długość wydawa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nia opinii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;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średnia długość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postępowania sądoweg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236640" y="4991040"/>
              <a:ext cx="220356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koszt na płatnika każdeg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odzaju podatk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12A7B-33C4-4D6A-AEDA-1D8D2D014B4E}" type="slidenum">
              <a:t>15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Przejrzystość informacji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9279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ydatki osobow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postaci kosztu całkowitego z uwzględnieniem składek pracodawc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+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ałoś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etatów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nagradzanych przez państwo 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« 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zeliczeniu na pełne etat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 »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ETP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zasadnienie pierwszego euro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środk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lementy fizyczno-finansow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zmocnienie zasad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iwersal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udżetowej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zedstawie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perator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taty i środ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Generalizacj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twierdzania środków budżetowa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la każdego rodzaju wydatków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achunkowoś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analizy kosztu działań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ozdział funkcji wspierających i usług wielofunkcyj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8AD00-63FB-4CC4-ACC6-09E8DD2EEE20}" type="slidenum">
              <a:t>16</a:t>
            </a:fld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55640" y="301680"/>
            <a:ext cx="7927920" cy="12556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Nowa rachunkowość</a:t>
            </a:r>
            <a:br>
              <a:rPr sz="3000"/>
            </a:br>
            <a:r>
              <a:rPr b="1" lang="pl-PL" sz="2700" spc="-1" strike="noStrike">
                <a:solidFill>
                  <a:srgbClr val="ffffff"/>
                </a:solidFill>
                <a:latin typeface="Arial"/>
              </a:rPr>
              <a:t>Narzędzia pomiaru sytuacji finansowej państwa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9280" y="1773360"/>
            <a:ext cx="860436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Wysoka kompatybilność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na poziomie ustawy organicznej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Obok rachunkowości budżetowej w kasi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wprowadzenie 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rachunkowości roku finansowego</a:t>
            </a:r>
            <a:r>
              <a:rPr b="1" lang="fr-FR" sz="24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uwzględniającej prawa stwierdzon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celem zapewnienia przejrzystości sytuacji finansowej państwa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(bilan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s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+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sytuacja pozabilansowa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Rachunki prawidłowe</a:t>
            </a:r>
            <a:r>
              <a:rPr b="1" lang="fr-FR" sz="24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rzeteln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dając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wierny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obraz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majątku i sytuacji finansowej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Wymóg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jakości księgowej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owierzanej księgowym wyposażonym w sprzęt komputerowy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E2E77-15C7-41A0-BCF4-E9A28469E2AB}" type="slidenum">
              <a:t>17</a:t>
            </a:fld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Nowa rachunkowość trójwymiarow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90520" indent="-290520" algn="just"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Rachunkowość budżetowa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piera się na księgowaniu przychod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 wydatków budżetow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nkaso/płatnoś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odatkowy okres księgow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n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dwójne monitorowa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AE/CP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90520" indent="-29052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Rachunkowość roku finansowego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opiera się na stwierdzenie praw i zobowiązań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bliskie powiązania z regułami rachunkowości przedsiębiorstw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względnia się operacje z tytułu roku finansowego,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o którego się one odnoszą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iezależnie od daty ich płatności lub inkas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90520" indent="-29052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Analiza kosztów działań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w służbie zarządzającego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por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. CAC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979640" y="189000"/>
            <a:ext cx="6638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A7C2A-1F74-45B6-9EF6-A3123F3212BE}" type="slidenum">
              <a:t>18</a:t>
            </a:fld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Uwzględnianie nowej księgowości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finicja ram pojęciow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rmy rachunkow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13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norm ustanowionych przez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Komitet ds. Norm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na podstawie stanów finansow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osztó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środków trwał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obowiązań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td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21 ma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ja 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2004 :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zatwierdzenie mocą rozporządzenia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odzaje norm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plan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rachunkó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odzajow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PCE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biór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instrukcji księgow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onstrukcja bilans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nwentaryzacja 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wycena nieruchomośc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oszt rynkow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Inne środki trwał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zeczowe i zapas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oczna certyfikacj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zez Naczelny Organ Kontrol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chunki za lata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2006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-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2007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rtyfikowane przez Trybunał Obrachunkow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13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 potem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12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astrzeżeniam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tym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 charakterze ogólnym dot. systemów informacji oraz kontroli wewnętrznej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3342B-8D08-440B-8BB2-C6E4C02391FD}" type="slidenum">
              <a:t>19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Ustawa organiczna z dnia 1 sierpnia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2001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 roku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w sprawie ustaw budżetowych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( LOLF)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we Francji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79279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Nowa konstytucja finansowa dla państwa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Inicjatywa parlamentarna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olityczne porozumienie ponad podziałami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Konsensus z rządem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ADEE5-F168-43F6-91D1-C791C524FC60}" type="slidenum">
              <a:t>2</a:t>
            </a:fld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Wzrost roli parlamentu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udżet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bardziej czytelny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dyskusja i przyjęcie wielkich polityk publicz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adani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dyskusja o środkach pierwszego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euro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atrudnieniu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nformacja wzbogacona celem kontroli wydatkó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PAP –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ałącznik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– RAP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débat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tencjalnie bogatsz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oszerzenie prawa do poprawk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rzenoszenie między programami w ramach tego samego zadania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trakc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ykona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zmocniony dostęp do informacji dla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omisji ds. finans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kty normatyw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zmocnione uprawnienia śledcze i do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rzesłuchiwa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sparcie ze strony Trybunału Obrachunkowego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e znacze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stawy rozliczeniowej,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względniającej rachunki oraz roczne sprawozdania wydajnośc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B3D5B-55CE-4C40-B83F-DE22955ED5C1}" type="slidenum">
              <a:t>20</a:t>
            </a:fld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295280" y="1600200"/>
            <a:ext cx="3581640" cy="49528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Do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371600" y="5162400"/>
            <a:ext cx="3352680" cy="12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94%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środków przenoszonych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rawie automatycznie z roku na rok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ziały  głosowane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ez kwestionowania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asadnicza część debaty dotyczy jedynie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6%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udżetu ogólnego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257800" y="5024520"/>
            <a:ext cx="3276720" cy="9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100%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środków przedmiotem dyskusj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arlamentarnej z uwzględnieniem poszczególnych zada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257800" y="1600200"/>
            <a:ext cx="358128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Od budżetu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667480" y="2577960"/>
            <a:ext cx="2333520" cy="23241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776240" y="2575080"/>
            <a:ext cx="2419560" cy="23778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1733400" y="2819520"/>
            <a:ext cx="533520" cy="228600"/>
          </a:xfrm>
          <a:custGeom>
            <a:avLst/>
            <a:gdLst/>
            <a:ahLst/>
            <a:rect l="l" t="t" r="r" b="b"/>
            <a:pathLst>
              <a:path w="288" h="96">
                <a:moveTo>
                  <a:pt x="192" y="48"/>
                </a:moveTo>
                <a:lnTo>
                  <a:pt x="288" y="0"/>
                </a:lnTo>
                <a:lnTo>
                  <a:pt x="0" y="0"/>
                </a:lnTo>
                <a:lnTo>
                  <a:pt x="0" y="96"/>
                </a:lnTo>
                <a:lnTo>
                  <a:pt x="192" y="96"/>
                </a:lnTo>
                <a:lnTo>
                  <a:pt x="288" y="0"/>
                </a:lnTo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381480" y="2581200"/>
            <a:ext cx="1353960" cy="285840"/>
          </a:xfrm>
          <a:custGeom>
            <a:avLst/>
            <a:gdLst/>
            <a:ahLst/>
            <a:rect l="l" t="t" r="r" b="b"/>
            <a:pathLst>
              <a:path w="912" h="192">
                <a:moveTo>
                  <a:pt x="0" y="0"/>
                </a:moveTo>
                <a:lnTo>
                  <a:pt x="48" y="96"/>
                </a:lnTo>
                <a:lnTo>
                  <a:pt x="336" y="96"/>
                </a:lnTo>
                <a:lnTo>
                  <a:pt x="432" y="192"/>
                </a:lnTo>
                <a:lnTo>
                  <a:pt x="912" y="192"/>
                </a:lnTo>
                <a:lnTo>
                  <a:pt x="912" y="0"/>
                </a:lnTo>
                <a:lnTo>
                  <a:pt x="0" y="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429000" y="2057400"/>
            <a:ext cx="160020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owe środki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97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łosowań w roku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95280" y="2347920"/>
            <a:ext cx="121932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ziały głosowan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: 1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losowa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15200" y="2438280"/>
            <a:ext cx="762120" cy="457200"/>
          </a:xfrm>
          <a:custGeom>
            <a:avLst/>
            <a:gdLst/>
            <a:ahLst/>
            <a:rect l="l" t="t" r="r" b="b"/>
            <a:pathLst>
              <a:path w="480" h="288">
                <a:moveTo>
                  <a:pt x="0" y="96"/>
                </a:moveTo>
                <a:lnTo>
                  <a:pt x="336" y="288"/>
                </a:lnTo>
                <a:lnTo>
                  <a:pt x="480" y="288"/>
                </a:lnTo>
                <a:lnTo>
                  <a:pt x="480" y="0"/>
                </a:lnTo>
                <a:lnTo>
                  <a:pt x="0" y="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696080" y="2517840"/>
            <a:ext cx="106704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47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zadań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47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łosowa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11280" y="301320"/>
            <a:ext cx="835344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Wzmocniona i unowocześniona debata budżetowa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C8870-BF19-46FF-A8B7-6C9551F219CF}" type="slidenum">
              <a:t>21</a:t>
            </a:fld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7.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Nowy system odpowiedzialności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 algn="just"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ilotaż kierownika program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 uzgodnieniach przeprowadzanych przez dyrektora ds. finansow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ysponowanie środkami i rozdzielanie ich na potrzeby zarządzania wewnętrznego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obowiązanie wydajności podejmowane wobec Parlament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oczny plan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ydajności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daje sprawę Parlamentow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oczny plan wydajnośc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85840" indent="-28584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ierownicy programu mogą pilotować kilka dyrekcj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85840" indent="-28584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dpowiedzialnoś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«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menedżersk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»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nagradzanie zasług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FD09E-79D4-4AB0-A47D-4BF00C9E23A3}" type="slidenum">
              <a:t>22</a:t>
            </a:fld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8. </a:t>
            </a: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Dekoncentracja zarządzania budżete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ogramy krajowe przekładają się na</a:t>
            </a:r>
            <a:r>
              <a:rPr b="0" lang="fr-FR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5f5f5f"/>
                </a:solidFill>
                <a:latin typeface="Arial"/>
              </a:rPr>
              <a:t>bud</a:t>
            </a: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ż</a:t>
            </a:r>
            <a:r>
              <a:rPr b="1" lang="fr-FR" sz="2000" spc="-1" strike="noStrike">
                <a:solidFill>
                  <a:srgbClr val="5f5f5f"/>
                </a:solidFill>
                <a:latin typeface="Arial"/>
              </a:rPr>
              <a:t>et </a:t>
            </a: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operacyjny programu</a:t>
            </a:r>
            <a:r>
              <a:rPr b="1" lang="fr-FR" sz="2000" spc="-1" strike="noStrike">
                <a:solidFill>
                  <a:srgbClr val="5f5f5f"/>
                </a:solidFill>
                <a:latin typeface="Arial"/>
              </a:rPr>
              <a:t> (BOP)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any obszar lub teren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lan działania z celami i wskaźnikami wydajności dostosowanymi do wyzwań operacyjnych zdekoncentrowanych działów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eliminarz budżetow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ściślający cele i rodzaje wydatków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chemat organizacji finansowej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arządza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kierownik operacyjnego budżetu program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dysponent operacyjnego budżetu programu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budżetowanie środków i sprawozdanie kierownikowi programu w ramach dialogu zarządczego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E74A3-A52B-406E-812F-2A6547C82843}" type="slidenum">
              <a:t>23</a:t>
            </a:fld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9.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Rozluźnienie kontroli ministerstwa finansów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499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kontrola budżetowa wykonal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kret z d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7/01/05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ezygnacja z kontroli prawidłow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wierzona zarządcom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stępne wizowanie początkowego planu budżetowego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trakcie zarządza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modularność kontroli z kontrolą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a priori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zależności od wyzwań i zagrożeń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wartalne sprawozdania zarządcze składane przez zarządzających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2500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ozluźniona kontrola księgowa wydatk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hierarchizowana lub partnersk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2500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le wzmocnion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ewnętrzna kontrola księgo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gwarantująca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«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jakość księgową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»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BB70E-D1E3-4EB2-8C32-05604D5C5F1D}" type="slidenum">
              <a:t>24</a:t>
            </a:fld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Realizacja kontroli należy do ministerstw zarządzających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Rozwój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 u="sng">
                <a:solidFill>
                  <a:srgbClr val="4d4d4d"/>
                </a:solidFill>
                <a:uFillTx/>
                <a:latin typeface="Arial"/>
              </a:rPr>
              <a:t>kontroli zarządzania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: «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oprawić stosunek środków zabudżetowanych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i działalności albo uzyskanych wyników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ministerialna i programowa kontrola zarządzania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jak też  na szczeblu lokalnym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Wzmocnieni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 u="sng">
                <a:solidFill>
                  <a:srgbClr val="4d4d4d"/>
                </a:solidFill>
                <a:uFillTx/>
                <a:latin typeface="Arial"/>
              </a:rPr>
              <a:t>kontroli wewnętrznej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konsekwencja reorganizacji ministerstw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oraz złagodzenie kontroli finansowych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stanowienie wewnętrznej kontroli księgowej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Rozwój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 u="sng">
                <a:solidFill>
                  <a:srgbClr val="4d4d4d"/>
                </a:solidFill>
                <a:uFillTx/>
                <a:latin typeface="Arial"/>
              </a:rPr>
              <a:t>audytu wewnętrznego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działalność wewnętrzna prowadzona przez dedykowane zespoły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inspekcj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FAD28-A183-4747-9B62-5B2D0F5E5400}" type="slidenum">
              <a:t>25</a:t>
            </a:fld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10.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Ustanowienie nowych systemów informacyjnych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System prowizoryczny od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2006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ale mało zadowalający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Nowe zintegrowane oprogramowanie zarządcz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(ERP)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w budowi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(CHORUS)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obejmując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całość centralnej i zdekoncentrowanej administracji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szystkie cele wydatkow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rzychody oraz każdy rodzaj księgowości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nfocentra danych umożliwiające zwrot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Dźwignia modernizacji i poprawy produktywności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poprzedzona przez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«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reinżynierię procesów finansowych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» (23.000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licencje zamiast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45.000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Postępujący rozwój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przewidziany w okresi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2009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-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2011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Niezbędne wsparcie rozwoju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E9BF9-3738-4778-9AAC-C0669B1BE4C2}" type="slidenum">
              <a:t>26</a:t>
            </a:fld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55640" y="301680"/>
            <a:ext cx="7927920" cy="12556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Konkludując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długotrwałość reformy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600"/>
            </a:b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Główne etapy reformy budżetowej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: 2001-2007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4000" y="2421000"/>
            <a:ext cx="8351640" cy="1440"/>
          </a:xfrm>
          <a:prstGeom prst="line">
            <a:avLst/>
          </a:prstGeom>
          <a:ln cap="sq" w="76320">
            <a:solidFill>
              <a:srgbClr val="00ad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6656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40328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86160" y="1916280"/>
            <a:ext cx="792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10160" y="1916280"/>
            <a:ext cx="792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30072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7672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291636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493236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831708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1027080" y="2490480"/>
            <a:ext cx="180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79440" y="3141720"/>
            <a:ext cx="1312920" cy="9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L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Głosowa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arlamenc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978200" y="3149640"/>
            <a:ext cx="187308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tworzenie Dyrekcji ds. Reformy Budżetowe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780000" y="3141720"/>
            <a:ext cx="180000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1 projekt ustawy budżetowej w trybie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LOL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Cele wydajnośc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/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skaźniki programow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580000" y="3135240"/>
            <a:ext cx="1943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port Lambert/Migaud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sprawie wdrożenia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LOL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6 :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1 ustawa budżetowa w trybie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LOLF &amp;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ebata parlamentar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451640" y="3135240"/>
            <a:ext cx="169236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1 roczne sprawozdania wydajnoś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certyfikacja rachunków przez Trybunał Obrachunkow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596360" y="1916280"/>
            <a:ext cx="792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37236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900000" y="5589720"/>
            <a:ext cx="266724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1 etap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budowanie podwal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073400" y="5589720"/>
            <a:ext cx="172260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2 etap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:</a:t>
            </a:r>
            <a:r>
              <a:rPr b="0" lang="fr-FR" sz="18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prefigurac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59640" y="5589720"/>
            <a:ext cx="189072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3 etap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:</a:t>
            </a:r>
            <a:r>
              <a:rPr b="0" lang="fr-FR" sz="18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wdrożenie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5400000">
            <a:off x="2019240" y="4173480"/>
            <a:ext cx="431640" cy="2520720"/>
          </a:xfrm>
          <a:custGeom>
            <a:avLst/>
            <a:gdLst>
              <a:gd name="textAreaLeft" fmla="*/ 275760 w 431640"/>
              <a:gd name="textAreaRight" fmla="*/ 432000 w 431640"/>
              <a:gd name="textAreaTop" fmla="*/ 65520 h 2520720"/>
              <a:gd name="textAreaBottom" fmla="*/ 2455200 h 25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9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5400000">
            <a:off x="4754520" y="4173480"/>
            <a:ext cx="431640" cy="2520720"/>
          </a:xfrm>
          <a:custGeom>
            <a:avLst/>
            <a:gdLst>
              <a:gd name="textAreaLeft" fmla="*/ 275760 w 431640"/>
              <a:gd name="textAreaRight" fmla="*/ 432000 w 431640"/>
              <a:gd name="textAreaTop" fmla="*/ 65520 h 2520720"/>
              <a:gd name="textAreaBottom" fmla="*/ 2455200 h 25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9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rot="5400000">
            <a:off x="7418160" y="4173480"/>
            <a:ext cx="431640" cy="2521080"/>
          </a:xfrm>
          <a:custGeom>
            <a:avLst/>
            <a:gdLst>
              <a:gd name="textAreaLeft" fmla="*/ 275760 w 431640"/>
              <a:gd name="textAreaRight" fmla="*/ 432000 w 431640"/>
              <a:gd name="textAreaTop" fmla="*/ 65520 h 2521080"/>
              <a:gd name="textAreaBottom" fmla="*/ 2455560 h 25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9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372360" y="2492280"/>
            <a:ext cx="25207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owa agencja zarządzania systemami informacyjny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4D5AA-15C3-4B3A-8963-28F0B3F93E08}" type="slidenum">
              <a:t>27</a:t>
            </a:fld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Pilotaż reform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pilotaż zapewnia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minister finansów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tworzenie dedykowanej struktury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dyrekcja ds. reformy budżetowej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dyrekcja projektu utworzona na okres ograniczony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: 50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rzędników wysokiego szczebla wspieranych przez konsultantów celem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definiowania nowych reguł budżetowo-księgow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e współpracy dyrekcji ds. budżetu i rachunkowości publicz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apewnienia międzyresortowego pilotażu reform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omitet dyrektorów finansowych ministerst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forum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ierowników programu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animowanie lokalnych komitetów ds. reform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…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Mapa drogowa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kalendarz, kamienie milow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stała konsultacje z komisjami ds. finansów w </a:t>
            </a:r>
            <a:r>
              <a:rPr b="1" lang="fr-FR" sz="2200" spc="-1" strike="noStrike">
                <a:solidFill>
                  <a:srgbClr val="4d4d4d"/>
                </a:solidFill>
                <a:latin typeface="Arial"/>
              </a:rPr>
              <a:t>Parl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a</a:t>
            </a:r>
            <a:r>
              <a:rPr b="1" lang="fr-FR" sz="2200" spc="-1" strike="noStrike">
                <a:solidFill>
                  <a:srgbClr val="4d4d4d"/>
                </a:solidFill>
                <a:latin typeface="Arial"/>
              </a:rPr>
              <a:t>men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ci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76D81-95AD-4418-8D53-983321EA24C4}" type="slidenum">
              <a:t>28</a:t>
            </a:fld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Nauki płynące z wdrażani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konieczność zaangażowania na najwyższym szczeblu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wsparcie polityczn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kształceni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menedżerów publicznych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w sferze kultury odpowiedzialności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kształceni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niezbędne na szczeblu ministerstw dla wszystkich pracowników,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niezależnie od ich poziomu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 (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kształcenie instruktorów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korzystanie z możliwości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eksperymentowania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celem przyswojenia sobie reformy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komunikacja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zewnętrzna i wewnętrzna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konieczne napięci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kalendarzow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A1D02-01D8-4E96-AD4E-EB79A0EEEA4D}" type="slidenum">
              <a:t>29</a:t>
            </a:fld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LOLF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musi zaspokajać oczekiwania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…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71720" y="1471680"/>
            <a:ext cx="344520" cy="372960"/>
          </a:xfrm>
          <a:prstGeom prst="downArrow">
            <a:avLst>
              <a:gd name="adj1" fmla="val 50000"/>
              <a:gd name="adj2" fmla="val 27064"/>
            </a:avLst>
          </a:prstGeom>
          <a:solidFill>
            <a:srgbClr val="000099"/>
          </a:solidFill>
          <a:ln cap="sq"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98560" y="1879560"/>
            <a:ext cx="2519280" cy="2070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radnych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3933720"/>
            <a:ext cx="280656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1160" indent="-28116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1160"/>
                <a:tab algn="l" pos="1195560"/>
                <a:tab algn="l" pos="2109960"/>
                <a:tab algn="l" pos="3024360"/>
                <a:tab algn="l" pos="3938760"/>
                <a:tab algn="l" pos="4853160"/>
                <a:tab algn="l" pos="5767560"/>
                <a:tab algn="l" pos="6681960"/>
                <a:tab algn="l" pos="7596360"/>
                <a:tab algn="l" pos="8510760"/>
                <a:tab algn="l" pos="9425160"/>
                <a:tab algn="l" pos="1033956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Zwiększona czytelność budżetu i przejrzystość wykon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11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1160"/>
                <a:tab algn="l" pos="1195560"/>
                <a:tab algn="l" pos="2109960"/>
                <a:tab algn="l" pos="3024360"/>
                <a:tab algn="l" pos="3938760"/>
                <a:tab algn="l" pos="4853160"/>
                <a:tab algn="l" pos="5767560"/>
                <a:tab algn="l" pos="6681960"/>
                <a:tab algn="l" pos="7596360"/>
                <a:tab algn="l" pos="8510760"/>
                <a:tab algn="l" pos="9425160"/>
                <a:tab algn="l" pos="1033956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Lepsze przeznaczanie zasobów na realizację polityk publiczn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467480" y="1471680"/>
            <a:ext cx="344520" cy="372960"/>
          </a:xfrm>
          <a:prstGeom prst="downArrow">
            <a:avLst>
              <a:gd name="adj1" fmla="val 50000"/>
              <a:gd name="adj2" fmla="val 27064"/>
            </a:avLst>
          </a:prstGeom>
          <a:solidFill>
            <a:srgbClr val="000099"/>
          </a:solidFill>
          <a:ln cap="sq"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386400" y="1879560"/>
            <a:ext cx="2519640" cy="2070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urzędników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43640" y="3930480"/>
            <a:ext cx="25210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Większa swoboda i wzmożona odpowiedzialność aktorów administracji</a:t>
            </a:r>
            <a:r>
              <a:rPr b="0" lang="fr-FR" sz="1800" spc="-1" strike="noStrike">
                <a:solidFill>
                  <a:srgbClr val="4d4d4d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Jasne ce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13120" y="1471680"/>
            <a:ext cx="344520" cy="372960"/>
          </a:xfrm>
          <a:prstGeom prst="downArrow">
            <a:avLst>
              <a:gd name="adj1" fmla="val 50000"/>
              <a:gd name="adj2" fmla="val 27064"/>
            </a:avLst>
          </a:prstGeom>
          <a:solidFill>
            <a:srgbClr val="000099"/>
          </a:solidFill>
          <a:ln cap="sq"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92360" y="3933720"/>
            <a:ext cx="2746440" cy="29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Obywatele</a:t>
            </a:r>
            <a:r>
              <a:rPr b="0" lang="fr-FR" sz="1800" spc="-1" strike="noStrike">
                <a:solidFill>
                  <a:srgbClr val="4d4d4d"/>
                </a:solidFill>
                <a:latin typeface="Arial Narrow"/>
              </a:rPr>
              <a:t> : </a:t>
            </a: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lepsze rozumienie wykorzystania podatk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Użytkownicy</a:t>
            </a:r>
            <a:r>
              <a:rPr b="0" lang="fr-FR" sz="1800" spc="-1" strike="noStrike">
                <a:solidFill>
                  <a:srgbClr val="4d4d4d"/>
                </a:solidFill>
                <a:latin typeface="Arial Narrow"/>
              </a:rPr>
              <a:t> : </a:t>
            </a: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lepsze dostosowanie służb publicznych do potrz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podatnicy</a:t>
            </a:r>
            <a:r>
              <a:rPr b="0" lang="fr-FR" sz="1800" spc="-1" strike="noStrike">
                <a:solidFill>
                  <a:srgbClr val="4d4d4d"/>
                </a:solidFill>
                <a:latin typeface="Arial Narrow"/>
              </a:rPr>
              <a:t> : </a:t>
            </a: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lepsze wykorzystanie podatk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45000" y="1879560"/>
            <a:ext cx="2519280" cy="2070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99"/>
                </a:solidFill>
                <a:latin typeface="Arial Narrow"/>
              </a:rPr>
              <a:t>obywate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39F63-0DE0-46F1-8A6A-2F50D544A961}" type="slidenum">
              <a:t>3</a:t>
            </a:fld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Pierwsze wyniki zachęcając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Francj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otrzymała termin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tyczo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1125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1 ustawa budżetowa przyjęta w trybi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LOLF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2006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1 rachunk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2006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certyfikowane przez Trybunał Obrachunkow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arodzin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nowej formy odpowiedzial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achęcającej resorty do redefinicji cel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elegując odpowiedzialnoś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y system zachęca do poprawy jak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sługi publicznej oraz lepszego wykorzystania zasobów publicznych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twarc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ziałów operacyj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finansowych i zasobów ludzkich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zeczywiste wzbogace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ialogu zarządczego,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le przełożenie na poprawę wydajnośc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447A2-CFA4-463B-AB0C-272C18327E5C}" type="slidenum">
              <a:t>30</a:t>
            </a:fld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Mimo trudnych początków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faza nau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e standard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e narzędz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y kalendarz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ciąż jeszcze mały margines manewr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łaby rozwój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flagowanie środków przez instancje administracji centralnej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…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bciążenie pracą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ardziej złożone i większ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ięcej informacj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ocedur budżetowania wydatk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td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.)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bawy dotyczące dyspozycyjności i dokładności niektór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narzędz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właszcza zintegrowanych systemów zarządcz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.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ierozstrzygnięta debata na temat podziału zysków produktyw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mało umów wieloletni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roblem stosowania reformy w okresie deficytu budżetowego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40F13-558E-4D5B-AD6A-A2A983A1E0BA}" type="slidenum">
              <a:t>31</a:t>
            </a:fld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Wyzwania długoterminow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Wyzwanie polityczn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rzeczywista rola Parlamentu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Wyzwanie administracyjn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spójność zasięgu ważnych programó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100)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raz kompetencje administracji central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200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dyrekcj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lacje pomiędzy administracją centralną a działami zdekoncentrowanymi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lacje między aktoram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minister finansó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/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sorty zarządzając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;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ierownicy programów operacyj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/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dyrekcje wspierając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achęty do osiągania wyników i poprawy zarządzania zasobam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udzkim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ścieżka zawodow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łac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bonifikat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td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.)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Wyzwanie kulturowe</a:t>
            </a:r>
            <a:r>
              <a:rPr b="1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rzejście od kultury środków i prawidłowości do kultury wyników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Wyzwanie techniczn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usprawnić systemy informacji 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na rzecz jakości i wiarygodności danych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2133720" y="645480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2" name=""/>
          <p:cNvGraphicFramePr/>
          <p:nvPr/>
        </p:nvGraphicFramePr>
        <p:xfrm>
          <a:off x="6858000" y="6472080"/>
          <a:ext cx="83808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6472080"/>
                    <a:ext cx="83808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" name=""/>
          <p:cNvSpPr/>
          <p:nvPr/>
        </p:nvSpPr>
        <p:spPr>
          <a:xfrm>
            <a:off x="2514600" y="6400800"/>
            <a:ext cx="4876920" cy="5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Konferencja współfinansowana przez Unię Europejską w ramach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Europejskiego Funduszu Społeczneg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1DF39-EEE7-4B37-8A44-B8B80AF31D23}" type="slidenum">
              <a:t>32</a:t>
            </a:fld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Kilka reform w uroczystym tekści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nomenklatura budżeto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zedmiotem dyskusj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głosowanie w sprawie wykonania ustaw budżetowych w celu prezentacj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lowości wydatków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Budżet ukierunkowany na wyni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posażony w cele i wskaźni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ynik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elem umożliwienia lepszego zarządzania publicznego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ardziej precyzyjne i przejrzyste rachun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azujące na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chunkowości stwierdzonych praw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(«accrual»)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raz analizie koszt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ające zarządzającym nowe narzędzia zarządzania wydatkam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y system zarządzania budżetem i procedury budżetowej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olegialność rządowa i aktywniejsza rol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Parl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a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ment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zezwalaniu na wydatki oraz ich kontrol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30664-3D36-44AC-8103-928D9E00618E}" type="slidenum">
              <a:t>4</a:t>
            </a:fld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Nowa architektura budżetowa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3249720" y="2209320"/>
            <a:ext cx="5892840" cy="3179520"/>
            <a:chOff x="3249720" y="2209320"/>
            <a:chExt cx="5892840" cy="3179520"/>
          </a:xfrm>
        </p:grpSpPr>
        <p:sp>
          <p:nvSpPr>
            <p:cNvPr id="116" name=""/>
            <p:cNvSpPr/>
            <p:nvPr/>
          </p:nvSpPr>
          <p:spPr>
            <a:xfrm>
              <a:off x="5238720" y="2209320"/>
              <a:ext cx="2306520" cy="75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4000" spc="-1" strike="noStrike">
                  <a:solidFill>
                    <a:srgbClr val="000000"/>
                  </a:solidFill>
                  <a:latin typeface="Arial"/>
                </a:rPr>
                <a:t>Zadani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7" name=""/>
            <p:cNvCxnSpPr/>
            <p:nvPr/>
          </p:nvCxnSpPr>
          <p:spPr>
            <a:xfrm rot="5400000">
              <a:off x="5938560" y="3431520"/>
              <a:ext cx="926640" cy="6840"/>
            </a:xfrm>
            <a:prstGeom prst="bentConnector3">
              <a:avLst>
                <a:gd name="adj1" fmla="val 49980"/>
              </a:avLst>
            </a:prstGeom>
            <a:ln cap="sq" w="76320">
              <a:solidFill>
                <a:srgbClr val="000099"/>
              </a:solidFill>
              <a:miter/>
            </a:ln>
          </p:spPr>
        </p:cxnSp>
        <p:sp>
          <p:nvSpPr>
            <p:cNvPr id="118" name=""/>
            <p:cNvSpPr/>
            <p:nvPr/>
          </p:nvSpPr>
          <p:spPr>
            <a:xfrm>
              <a:off x="3630600" y="3889440"/>
              <a:ext cx="152244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624640" y="3889440"/>
              <a:ext cx="152388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620120" y="3889440"/>
              <a:ext cx="152244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1" name=""/>
            <p:cNvCxnSpPr>
              <a:stCxn id="116" idx="2"/>
              <a:endCxn id="118" idx="0"/>
            </p:cNvCxnSpPr>
            <p:nvPr/>
          </p:nvCxnSpPr>
          <p:spPr>
            <a:xfrm rot="5400000">
              <a:off x="4929120" y="2424600"/>
              <a:ext cx="924840" cy="2002680"/>
            </a:xfrm>
            <a:prstGeom prst="bentConnector3">
              <a:avLst>
                <a:gd name="adj1" fmla="val 50000"/>
              </a:avLst>
            </a:prstGeom>
            <a:ln cap="sq" w="76320">
              <a:solidFill>
                <a:srgbClr val="000099"/>
              </a:solidFill>
              <a:miter/>
            </a:ln>
          </p:spPr>
        </p:cxnSp>
        <p:cxnSp>
          <p:nvCxnSpPr>
            <p:cNvPr id="122" name=""/>
            <p:cNvCxnSpPr>
              <a:stCxn id="116" idx="2"/>
              <a:endCxn id="120" idx="0"/>
            </p:cNvCxnSpPr>
            <p:nvPr/>
          </p:nvCxnSpPr>
          <p:spPr>
            <a:xfrm flipH="1" rot="16200000">
              <a:off x="6923160" y="2431800"/>
              <a:ext cx="924840" cy="1987920"/>
            </a:xfrm>
            <a:prstGeom prst="bentConnector3">
              <a:avLst>
                <a:gd name="adj1" fmla="val 50000"/>
              </a:avLst>
            </a:prstGeom>
            <a:ln cap="sq" w="76320">
              <a:solidFill>
                <a:srgbClr val="000099"/>
              </a:solidFill>
              <a:miter/>
            </a:ln>
          </p:spPr>
        </p:cxnSp>
        <p:sp>
          <p:nvSpPr>
            <p:cNvPr id="123" name=""/>
            <p:cNvSpPr/>
            <p:nvPr/>
          </p:nvSpPr>
          <p:spPr>
            <a:xfrm>
              <a:off x="5396040" y="5061240"/>
              <a:ext cx="9000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Działan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9200" y="5061960"/>
              <a:ext cx="87948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pl-PL" sz="1200" spc="-1" strike="noStrike">
                  <a:solidFill>
                    <a:srgbClr val="000000"/>
                  </a:solidFill>
                  <a:latin typeface="Verdana"/>
                </a:rPr>
                <a:t>Działan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21320" y="5061240"/>
              <a:ext cx="79056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Działan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249720" y="5059800"/>
              <a:ext cx="8334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Działan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18" idx="2"/>
              <a:endCxn id="126" idx="0"/>
            </p:cNvCxnSpPr>
            <p:nvPr/>
          </p:nvCxnSpPr>
          <p:spPr>
            <a:xfrm rot="5400000">
              <a:off x="3669480" y="4335120"/>
              <a:ext cx="719640" cy="727560"/>
            </a:xfrm>
            <a:prstGeom prst="bentConnector3">
              <a:avLst>
                <a:gd name="adj1" fmla="val 50000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  <p:cxnSp>
          <p:nvCxnSpPr>
            <p:cNvPr id="128" name=""/>
            <p:cNvCxnSpPr>
              <a:stCxn id="118" idx="2"/>
              <a:endCxn id="124" idx="0"/>
            </p:cNvCxnSpPr>
            <p:nvPr/>
          </p:nvCxnSpPr>
          <p:spPr>
            <a:xfrm rot="5400000">
              <a:off x="4029480" y="4608360"/>
              <a:ext cx="632520" cy="94320"/>
            </a:xfrm>
            <a:prstGeom prst="bentConnector3">
              <a:avLst>
                <a:gd name="adj1" fmla="val 50000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  <p:cxnSp>
          <p:nvCxnSpPr>
            <p:cNvPr id="129" name=""/>
            <p:cNvCxnSpPr>
              <a:stCxn id="118" idx="2"/>
              <a:endCxn id="123" idx="0"/>
            </p:cNvCxnSpPr>
            <p:nvPr/>
          </p:nvCxnSpPr>
          <p:spPr>
            <a:xfrm flipH="1" rot="16200000">
              <a:off x="4757760" y="3973320"/>
              <a:ext cx="721440" cy="1453320"/>
            </a:xfrm>
            <a:prstGeom prst="bentConnector3">
              <a:avLst>
                <a:gd name="adj1" fmla="val 49975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  <p:cxnSp>
          <p:nvCxnSpPr>
            <p:cNvPr id="130" name=""/>
            <p:cNvCxnSpPr>
              <a:stCxn id="118" idx="2"/>
              <a:endCxn id="125" idx="0"/>
            </p:cNvCxnSpPr>
            <p:nvPr/>
          </p:nvCxnSpPr>
          <p:spPr>
            <a:xfrm flipH="1" rot="16200000">
              <a:off x="4343400" y="4387680"/>
              <a:ext cx="721440" cy="624600"/>
            </a:xfrm>
            <a:prstGeom prst="bentConnector3">
              <a:avLst>
                <a:gd name="adj1" fmla="val 49975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</p:grpSp>
      <p:sp>
        <p:nvSpPr>
          <p:cNvPr id="131" name=""/>
          <p:cNvSpPr/>
          <p:nvPr/>
        </p:nvSpPr>
        <p:spPr>
          <a:xfrm>
            <a:off x="609480" y="3772080"/>
            <a:ext cx="2667240" cy="1828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4838760"/>
            <a:ext cx="289584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Zarządza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0800000">
            <a:off x="611280" y="3735360"/>
            <a:ext cx="2666880" cy="419040"/>
          </a:xfrm>
          <a:prstGeom prst="triangle">
            <a:avLst>
              <a:gd name="adj" fmla="val 50000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2171880"/>
            <a:ext cx="2667240" cy="160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3200" y="2400480"/>
            <a:ext cx="258480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Dyskusja i głosowa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 Parlamen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04560" y="3733920"/>
            <a:ext cx="136548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Zezwol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ykona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10CF7-EC40-4305-88AA-F864E300DD14}" type="slidenum">
              <a:t>5</a:t>
            </a:fld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Misja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wyraz wyborów politycznych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11280" y="1197000"/>
            <a:ext cx="7316640" cy="5400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5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32 </a:t>
            </a: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zadania dla budżetu ogólnego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Identyfikacja spójnych polityk publicznych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: «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Zadanie to obejmuje całość programów przyczyniających się do realizacji określonej polityki publicznej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»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To jednomyślne głosowanie w Parlamenci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bejmuje pewien zbiór programów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arlament może dokonywać przesunięcia środków pomiędzy poszczególnymi programam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 ramach danej misji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Może mieć charakter ministerialny i międzyresortowy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8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misji międzyresortow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rzykład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adani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«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Badania naukow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»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bejmuj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6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sortów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D2D75-21DD-4ECF-B45A-5068D64F3883}" type="slidenum">
              <a:t>6</a:t>
            </a:fld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826920" y="1928160"/>
            <a:ext cx="7858440" cy="4674960"/>
            <a:chOff x="826920" y="1928160"/>
            <a:chExt cx="7858440" cy="4674960"/>
          </a:xfrm>
        </p:grpSpPr>
        <p:sp>
          <p:nvSpPr>
            <p:cNvPr id="140" name=""/>
            <p:cNvSpPr/>
            <p:nvPr/>
          </p:nvSpPr>
          <p:spPr>
            <a:xfrm>
              <a:off x="7153200" y="2032920"/>
              <a:ext cx="1522440" cy="9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Szkolnictwo wyższe i badanie naukow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26920" y="1928160"/>
              <a:ext cx="6105600" cy="120996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Kształcenie wyższe i badania akademick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Życie studenck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Wielodyscyplinarne badania naukowo-technologicz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w dziedzinie zarządzania ośrodkami i zasobam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kosmicz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5400000">
              <a:off x="6890400" y="249444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26920" y="3382560"/>
              <a:ext cx="610560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przemysłow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153200" y="3138120"/>
              <a:ext cx="1522440" cy="84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Ekonomia, przemysł, zatrudnien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5400000">
              <a:off x="6890400" y="352188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26920" y="3995640"/>
              <a:ext cx="6105600" cy="78372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w dziedzinie zagrożeń i zanieczyszcze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w dziedzinie energetyk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w dziedzinie transportu, infrastruktury i mieszkalnictw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153200" y="3889080"/>
              <a:ext cx="1522440" cy="9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Ekologi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Trwały rozwój i zagospodarowan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5400000">
              <a:off x="6890400" y="435060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153200" y="5016600"/>
              <a:ext cx="15224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Obro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26920" y="5014800"/>
              <a:ext cx="610560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dualne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cywilne i wojskowe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5400000">
              <a:off x="6890400" y="515736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26920" y="6245640"/>
              <a:ext cx="610560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Nauczanie wyższe i badania w dziedzinie rolnictw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153200" y="6245640"/>
              <a:ext cx="15224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Rolnictw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5400000">
              <a:off x="6890400" y="638964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162920" y="5618520"/>
              <a:ext cx="15224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Kultu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36640" y="5615280"/>
              <a:ext cx="610704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w dziedzinie kultury i kultura nauk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5400000">
              <a:off x="6899760" y="5759640"/>
              <a:ext cx="298440" cy="7452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Zadanie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« 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Badanie naukowe i szkolnictwo wyższe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 »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12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programów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/ 6 minist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erstw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4F901-7B55-4A8F-83C1-B96663A33F22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Program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ramy zatwierdzania polityk publicznych i zarządzania nimi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00"/>
              </a:spcBef>
              <a:spcAft>
                <a:spcPts val="3501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130 </a:t>
            </a: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programów dot. budżetu ogólnego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rogram obejmuje środki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niezależnie od ich rodzaju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)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rzeznaczone na wdrażanie danego działania lub spójnej grupy działań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(600)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odlega jednemu ministrowi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Jednostka specjalności środków i definiowania celów oraz wskaźników dot. osiąganych wyników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Brak budżetowania analitycznego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Wymaga pilotażu, który ujawnia nowe funkcje menedżerskie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204840"/>
            <a:ext cx="7010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55520" y="204840"/>
            <a:ext cx="765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536C5-541F-4294-A3BB-D66BE39F6CD5}" type="slidenum">
              <a:t>8</a:t>
            </a:fld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5181480" y="2967120"/>
            <a:ext cx="3657600" cy="53496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Administracja penitencja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219640" y="5445000"/>
            <a:ext cx="3619440" cy="66384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Prowadzenie i pilotaż</a:t>
            </a:r>
            <a:r>
              <a:rPr b="1" lang="fr-FR" sz="20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polityki w dziedzinie wymia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sprawiedliwości oraz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organów pokrewny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81480" y="2349360"/>
            <a:ext cx="3657600" cy="45720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Sądownictwo powszech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81480" y="3662280"/>
            <a:ext cx="3657600" cy="74448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Ochrona sądowa młodzież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181480" y="4567320"/>
            <a:ext cx="3657600" cy="38268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Dostępność prawa 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wymiaru sprawiedliwoś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Globalizacja środków</a:t>
            </a:r>
            <a:br>
              <a:rPr sz="3000"/>
            </a:b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Przykład zadania</a:t>
            </a:r>
            <a:r>
              <a:rPr b="1" lang="fr-FR" sz="2700" spc="-1" strike="noStrike">
                <a:solidFill>
                  <a:srgbClr val="ffffff"/>
                </a:solidFill>
                <a:latin typeface="Arial"/>
              </a:rPr>
              <a:t> «</a:t>
            </a:r>
            <a:r>
              <a:rPr b="1" lang="pl-PL" sz="2700" spc="-1" strike="noStrike">
                <a:solidFill>
                  <a:srgbClr val="ffffff"/>
                </a:solidFill>
                <a:latin typeface="Arial"/>
              </a:rPr>
              <a:t>wymiar sprawiedliwości</a:t>
            </a:r>
            <a:r>
              <a:rPr b="1" lang="fr-FR" sz="27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92200" y="1484280"/>
            <a:ext cx="4267080" cy="4897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a50021"/>
                </a:solidFill>
                <a:latin typeface="Arial"/>
              </a:rPr>
              <a:t>Przedtem</a:t>
            </a:r>
            <a:r>
              <a:rPr b="1" lang="fr-FR" sz="1600" spc="-1" strike="noStrike">
                <a:solidFill>
                  <a:srgbClr val="a50021"/>
                </a:solidFill>
                <a:latin typeface="Arial"/>
              </a:rPr>
              <a:t> : 30 </a:t>
            </a:r>
            <a:r>
              <a:rPr b="1" lang="pl-PL" sz="1600" spc="-1" strike="noStrike">
                <a:solidFill>
                  <a:srgbClr val="a50021"/>
                </a:solidFill>
                <a:latin typeface="Arial"/>
              </a:rPr>
              <a:t>rozdziałó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a50021"/>
                </a:solidFill>
                <a:latin typeface="Arial"/>
              </a:rPr>
              <a:t>160 </a:t>
            </a:r>
            <a:r>
              <a:rPr b="1" lang="pl-PL" sz="1600" spc="-1" strike="noStrike">
                <a:solidFill>
                  <a:srgbClr val="a50021"/>
                </a:solidFill>
                <a:latin typeface="Arial"/>
              </a:rPr>
              <a:t>artykułów preliminar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ytuł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III –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Środki poszczególnych działó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Kadry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 –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wynagrodzenia za prac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Emeryci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 –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emerytury i zasiłk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Kadra zawodowo czynna i na emeryturz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 –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obciążenia socjal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Sprzęt i funkcjonowanie działó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Dotacje bieżą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Wydatki róż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ytuł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IV –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Interwencje publicz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Interwencje o charakterze polityczno-administracyjny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Działania socjaln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 –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pomoc i solidarnoś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ytuł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V –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Inwestycje wykonywane przez państw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Wyposażenie administracji i róż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ytuł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VI –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otacje inwestycyjne przyznawane przez państw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Wyposażenie w dziedzinie kultury i w sferze społeczne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95840" y="3044880"/>
            <a:ext cx="380880" cy="1600200"/>
          </a:xfrm>
          <a:prstGeom prst="rightArrow">
            <a:avLst>
              <a:gd name="adj1" fmla="val 71824"/>
              <a:gd name="adj2" fmla="val 50833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148360" y="1679400"/>
            <a:ext cx="36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a50021"/>
                </a:solidFill>
                <a:latin typeface="Arial"/>
              </a:rPr>
              <a:t>Potem</a:t>
            </a:r>
            <a:r>
              <a:rPr b="1" lang="fr-FR" sz="1800" spc="-1" strike="noStrike">
                <a:solidFill>
                  <a:srgbClr val="a50021"/>
                </a:solidFill>
                <a:latin typeface="Arial"/>
              </a:rPr>
              <a:t> : 5 program</a:t>
            </a:r>
            <a:r>
              <a:rPr b="1" lang="pl-PL" sz="1800" spc="-1" strike="noStrike">
                <a:solidFill>
                  <a:srgbClr val="a50021"/>
                </a:solidFill>
                <a:latin typeface="Arial"/>
              </a:rPr>
              <a:t>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73657-930E-45BD-9D65-88FACC832C50}" type="slidenum">
              <a:t>9</a:t>
            </a:fld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0:25:37Z</dcterms:created>
  <dc:creator>MINEFI</dc:creator>
  <dc:description/>
  <dc:language>en-US</dc:language>
  <cp:lastModifiedBy>KAS</cp:lastModifiedBy>
  <dcterms:modified xsi:type="dcterms:W3CDTF">2009-02-05T11:33:08Z</dcterms:modified>
  <cp:revision>176</cp:revision>
  <dc:subject/>
  <dc:title>La gestion de la réforme budgétaire </dc:title>
</cp:coreProperties>
</file>